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6D2A4-2D4C-4E11-A0F0-4DD80F4F9E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020E6-D30F-47DC-AAE2-DB2AACEC8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992F3-79E5-4FBD-B475-21343B959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it?  Python unittest is Jun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C7F23-58FE-4C3D-81B0-7297361B9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FDFFE-9CC4-4500-89FA-E3622D6BF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go and browse the forums, people are finding solutions to all these 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a setup utility up front, to set resolution, window size, Desktop back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902DE-60E4-4C3C-960A-047AEC91A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you can see, it can see.  Including emulators for mobile de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on (actually Jython) so all Python syntax, function defines, modules etc. are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5CF18-28E0-4051-85D4-0FF0B080E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ick command takes two arguments;  an image to find, and what kind of cl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s on the first match it finds, to a 75% “fuzzines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een and Region are optional. Screen is a super-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09519-66F9-4BE0-867D-18F80541C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A0A01-41A6-4E68-AF58-8EAE2F6BC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ging in the 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tool itself to help make the ora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02902-4FAF-49B6-9972-2C716D187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64D3-A45A-4EB2-BD2C-D9E5B742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A10-BC8B-45C1-A016-2FABE9FE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509-81EE-487E-AA9F-466257C8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0E4-C118-448B-8328-1607D1C9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E7E1-2B86-4E3B-B1B0-66227124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3249-A12A-49C0-BE25-AD9759C3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EB6B-B578-4FF0-BAC6-A625B5FB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3985-1AB1-45D0-A846-33257761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CCCF-722D-4386-B4ED-1F6C4467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9872-0992-4AEE-A53F-4B74BE05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588B-7FAA-46CE-8EDD-C827C988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BF4-3B7F-4814-A445-AE9F6F2C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6F58-8A2C-4605-8349-8A33C8C6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1087-ECD4-426E-95A1-3B52F31C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3431-42C9-4DC0-BF8A-EAC0BC20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E852-626D-4B33-8AAA-6514E90D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3B76-7381-452D-B799-B1B029AC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0DEF-DE19-42E9-9F3E-0DD85453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C9D46-9E6B-4253-9BCC-651D7250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CC38D-7295-471B-9034-4F156233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D32E7-B9BF-4416-9090-0DC5AC73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ACEF5-3C7C-4484-8793-2EF37E85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81C-ACEA-4DF3-A728-02C86CA3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79BCE-66C9-4931-ACAC-9A76C761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9FFB4-8D7A-4F46-B481-809E806F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E6E1-96BC-4513-839D-FE1A0A3A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5261A-C31A-4EFA-A896-3F9C4A11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DAD36-575B-4E44-8BAC-3DAD8F01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5F900-8291-4153-B5CB-4D7DA2B1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85A2E-EDF0-4E08-ADF2-38FA7463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79257-4C10-4586-A427-A072B997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8A02B-3BCB-476E-B969-AA8A7F8C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7030A-74FA-46A9-AA64-3ED9D682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1D84-A822-4C17-B887-318072EA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13F63-2BEA-4BA4-8F9E-CAA885D0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57D5A-8BDE-4A59-83D1-D6A959D4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E73D8-0158-41FE-B01C-5A7282E4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146AA-AAF9-4C77-A1A0-CC4B853B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62FD5-E65D-4955-8C80-C15C8087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54B34-8682-444B-9628-9A1470C8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A5F02-F264-4EF7-9734-731065EB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DC619-5E54-4FEE-BD49-82AD1A89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DFFAE-4406-425F-B75A-AB29EFE5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57392-8566-456D-BEB1-594FBF82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4E4-6D44-4A70-8320-9D6A4AB4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14A91-900B-4B6A-AF2B-038C9CC2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01B0A-9F7E-43E4-930E-3599B6A6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38595-82B6-4184-98AE-45EB3FEB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E7526-E019-402D-9915-DEA6FDD1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9D037-3DAA-424F-8FD9-6A53FBF1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16D52-90C2-446D-AC5F-2AC1A1BF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69CBC-DF6A-41FB-A539-3F3B641E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BF437-46CD-468F-B373-737E0FD0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2C77E-0701-46B0-9968-B61E0A33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A1CAF-E5C8-4D2F-809A-5C3B886E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B1B-A7BD-4744-A512-157D840B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C52CC-1509-49F3-844A-A2B1CF79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DEF21-4595-48C4-8167-01005411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66257-340D-4169-85EE-620ECE7E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34EC9-0A12-43D6-BE1E-C06D42BE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C086D-5F72-43D3-ACA9-919CE4D3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F15C9-5958-49F7-A77B-01B87EC7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5308D-6DEB-4718-B362-EE37C81E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6EDAE-AB79-488A-97D9-7785EFF0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86D44-30E2-4B47-BE02-7B6FF87F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1B358-E445-4A67-8144-6CB298CF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109-3220-4E0A-BB11-629A5ABC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F4B04-D9FF-461E-8ED4-B83BDD86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4BF72-F182-42E3-8310-799CD3FC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A11D3-BF2D-4DDA-92D9-0C95F643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91EB7-D4C7-427B-A0CD-63A84CEA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CB90C-3CFE-4768-979B-1FDD6648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6CF32-A411-493F-954C-BABE2FD8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7487C-8692-4CEB-833F-7C0562A0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9227F-C18C-461B-A067-C38030BC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8C1F4-0C1C-40DB-9172-1D88E8C5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9CF4B-81EA-43B2-AAB9-04413A59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F4B-CE63-4166-B441-1D30D675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1D98C-920B-45B2-8A6C-C9862FC8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704D8-5C99-4F0A-A703-E07019C6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67E66-E384-4B70-94B3-23EF5755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71FD1-EA13-4E88-87F2-9D665A11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F0933-3186-428B-AB96-E05B9E22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C15-49C6-4B3E-BD1E-D06583FC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65D8F-F800-43B8-89C8-3D3067F5CEB5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7069E-3B67-41B4-BE53-F69B3408FC6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B3C40-E940-49D6-A09A-C71D350676FA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F773D-2A34-487E-AC61-9441EF75039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8F689-B3FF-492D-8C5D-6B9EDF760A87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BAABB-065C-49BA-9C90-182B43398CD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61BA2-EB45-4058-9175-2FBA4B8F9A9D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73CE2-E09F-4E35-BDC3-1A7EA59568C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8AF96-69F6-4523-B5E0-90F3EFB6191E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7830E-6410-42C5-8BC7-8452E6E16ED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F1D10-4EB6-4039-90D4-573CE98D8A5F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D653D-1843-4232-873A-2FF81CF098E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61EE5-9FD4-470D-B8FA-57587B4BBBBA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91F18-FFBB-40BA-A30A-041D625B9C0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s Sikuli a viable QA tool?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Adrienne Hunt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A Manag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PACE Anti-Piracy, In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ch brings us to its newest feature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CR/Text recogni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ill under develop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try i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igging deep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nit test from the IDE (Python unittes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un from the command 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ava level AP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Netbeans or Eclip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ild shared libraries of mini-screensho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e exten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se the forums, see what people are do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ww.sikuli.or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wnload 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llow Contacts link to launchpad.n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Q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u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y platfor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ktop as well as we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 need to map the underlying 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ee, open-sour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asy for newb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tro to Pyth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I chang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ts of screenshots to manag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parate screenshots per 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lse hits or mi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eatabil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 far, I’ve only used Sikuli for small one-off experimental projec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nta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rienne Hun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CE Anti-Piracy, In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rienne@paceap.c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ww.paceap.c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ww.ilok.c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3" descr="Both iLoks.bmp"/>
          <p:cNvPicPr/>
          <p:nvPr/>
        </p:nvPicPr>
        <p:blipFill>
          <a:blip r:embed="rId2"/>
          <a:stretch/>
        </p:blipFill>
        <p:spPr>
          <a:xfrm>
            <a:off x="1434960" y="1397160"/>
            <a:ext cx="166392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kul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142640"/>
            <a:ext cx="7499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utomation too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isual, recognizes mini-screensho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 need to map the underlying 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ktop apps, web, iPhone emulat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Python libr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Ph.D project at MI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ee, open-sour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lashdot in early 201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C2 now, 1.0 scheduled for 5/30/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kuli, the fine pri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ikuli is an open-source research project developed at User Interface Design Group, MIT Computer Science and Artificial Intelligence Laboratory (CSAI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signed by associate professor Rob Miller, grad student Tsung-Hsiang Chang, and the University of Maryland’s Tom Yeh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upported in part by the National Science Foundation and by Quanta Computer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ikuli Script and Sikuli IDE are both released under the MIT Licens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Tweetie.png"/>
          <p:cNvPicPr/>
          <p:nvPr/>
        </p:nvPicPr>
        <p:blipFill>
          <a:blip r:embed="rId2"/>
          <a:stretch/>
        </p:blipFill>
        <p:spPr>
          <a:xfrm>
            <a:off x="1434960" y="1219320"/>
            <a:ext cx="5635800" cy="2927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Screen Region Click.png"/>
          <p:cNvPicPr/>
          <p:nvPr/>
        </p:nvPicPr>
        <p:blipFill>
          <a:blip r:embed="rId3"/>
          <a:stretch/>
        </p:blipFill>
        <p:spPr>
          <a:xfrm>
            <a:off x="1600200" y="4978440"/>
            <a:ext cx="4521240" cy="7365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xamples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TextBox 6"/>
          <p:cNvSpPr/>
          <p:nvPr/>
        </p:nvSpPr>
        <p:spPr>
          <a:xfrm>
            <a:off x="1471680" y="4146480"/>
            <a:ext cx="24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From the Sikuli blog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e Python syntax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TextBox 7"/>
          <p:cNvSpPr/>
          <p:nvPr/>
        </p:nvSpPr>
        <p:spPr>
          <a:xfrm>
            <a:off x="1137600" y="571500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when it finds an image. x marks the spot, 75% fuzzines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How Sikuli works.png"/>
          <p:cNvPicPr/>
          <p:nvPr/>
        </p:nvPicPr>
        <p:blipFill>
          <a:blip r:embed="rId2"/>
          <a:stretch/>
        </p:blipFill>
        <p:spPr>
          <a:xfrm>
            <a:off x="1371600" y="449280"/>
            <a:ext cx="6400800" cy="4172040"/>
          </a:xfrm>
          <a:prstGeom prst="rect">
            <a:avLst/>
          </a:prstGeom>
          <a:ln w="0">
            <a:noFill/>
          </a:ln>
        </p:spPr>
      </p:pic>
      <p:sp>
        <p:nvSpPr>
          <p:cNvPr id="337" name="TextBox 7"/>
          <p:cNvSpPr/>
          <p:nvPr/>
        </p:nvSpPr>
        <p:spPr>
          <a:xfrm>
            <a:off x="1523880" y="46213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ikuli Script is a Jython and Java library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TextBox 8"/>
          <p:cNvSpPr/>
          <p:nvPr/>
        </p:nvSpPr>
        <p:spPr>
          <a:xfrm>
            <a:off x="1523880" y="52578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ikuli IDE integrates screen capturing and a custom text editor to edit and run Sikuli source scrip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ive dem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0" name="Picture 3" descr="Sikuli calc 1.png"/>
          <p:cNvPicPr/>
          <p:nvPr/>
        </p:nvPicPr>
        <p:blipFill>
          <a:blip r:embed="rId2"/>
          <a:stretch/>
        </p:blipFill>
        <p:spPr>
          <a:xfrm>
            <a:off x="1676520" y="1981080"/>
            <a:ext cx="58863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ther groups of comman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ion (many commands extend Region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All(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penapp, switchap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pp.Focus(Xcode.app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ype(key.BACKSPAC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useUp, scrollWheel, dragDro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File structure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600" y="1447560"/>
            <a:ext cx="4203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.sikuli file is actually a fol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Picture 4" descr="Win7CalcContents2.PNG"/>
          <p:cNvPicPr/>
          <p:nvPr/>
        </p:nvPicPr>
        <p:blipFill>
          <a:blip r:embed="rId2"/>
          <a:stretch/>
        </p:blipFill>
        <p:spPr>
          <a:xfrm>
            <a:off x="5837400" y="274680"/>
            <a:ext cx="3097080" cy="3257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Win7CalcContents1.PNG"/>
          <p:cNvPicPr/>
          <p:nvPr/>
        </p:nvPicPr>
        <p:blipFill>
          <a:blip r:embed="rId3"/>
          <a:stretch/>
        </p:blipFill>
        <p:spPr>
          <a:xfrm>
            <a:off x="1434960" y="3505320"/>
            <a:ext cx="73645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or Q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gg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g information about the S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creen captures at run ti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rify against expected resul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sertExi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tClipboa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are found image to sa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02:47:53Z</dcterms:created>
  <dc:creator>Adrienne Hunter</dc:creator>
  <dc:description/>
  <dc:language>en-US</dc:language>
  <cp:lastModifiedBy>Adrienne Hunter</cp:lastModifiedBy>
  <cp:lastPrinted>2011-05-10T03:21:54Z</cp:lastPrinted>
  <dcterms:modified xsi:type="dcterms:W3CDTF">2011-05-10T19:16:29Z</dcterms:modified>
  <cp:revision>8</cp:revision>
  <dc:subject/>
  <dc:title>Is Sikuli a viable QA tool?</dc:title>
</cp:coreProperties>
</file>